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4.jpeg" ContentType="image/jpeg"/>
  <Override PartName="/ppt/media/image16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945A-C005-4857-85E7-0D60DBA2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F2F5-480D-45D0-B86C-0FEDB8B86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691F58-BD6D-4564-A5ED-BF4AF44F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6406C0-0CBA-40F4-99CD-EC163F14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D7B4FA-C5B2-47DB-AE89-316726C3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6F1E5-248A-4765-9283-F671CE8F6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4FC07-2153-4E9F-8294-3EB100066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EBA2D7-5C13-4DB2-8FBE-72A6ADF88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C18858-4233-4C87-BD59-BA4B3553F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CD3EF1-E60D-4185-A479-FA04CD269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1DF97C-A5A6-45DB-BECF-06BD6200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1C7047-AD8C-44F6-A328-1724BFE46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F3964-ACE1-46EF-A9E0-1C2A9DA59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08E1B-72D6-4C64-9A2C-9A90DFCBB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0F1737-B398-421F-B52B-6BB4CC0A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EE01AE-0025-4C82-B126-4FF1DBB0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DEF01C-9CFC-46FD-9105-30E4855AF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CB6CBE-2138-4BA5-B28C-40723D85B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8EE46F-C412-44F2-B55F-370C6FD2D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F61C0C-F0E5-4E71-A5A9-796F7F6F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82029E-3B7F-487F-B622-0D7C1E2D0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C86564-E2A4-4EF8-93CF-3BE9C1D7D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17EC95B-5C77-4499-9F7F-5ECEEDD95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EE77-B360-4FE7-810F-1C0CFF263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442282-7310-436D-B848-A4F5BE5AC9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EDAB44-7162-4AAC-9052-ECBD98402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B70ECB-A4A9-4F0C-A6E8-96DC6A173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57A656-05CB-421A-A4FA-DC726ABE2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E50C67-4F7E-4605-BC64-1112F795E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748EA8-53FE-4F87-884C-516F27A1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E885FD-EC69-46BB-8469-27514131F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D6C0C3-8A4C-4B6F-8955-39C0379A3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78E6230-30A6-4306-87C6-CD9800B2B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F538A4-BEE8-4434-9F4A-A31C342A5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3DECF-542D-44A0-8E8D-7B591E9C3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2B2AE7-A880-4949-9273-3A63C7679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D0B80F-163B-48D7-A119-4EF1F066B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6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7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EBF53F-A4B8-4B28-94A0-3D9DD01BD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A71FA-9EFA-469F-9C0D-C54FCB1DB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4D975-509F-41F0-9F1B-DD98ECD2C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5AEF970-7A31-43E3-B590-8706DC143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FDBA51-8998-41DD-B24C-1497C58BD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E6082D-B3CA-4533-8DCF-973F5C1AF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36045B-0B79-4C63-AD7A-47550886A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A6CBC5-66A6-4377-A8FE-FA832A74D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7EB72-5215-4230-95E0-9070A8CA4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5055AB-3BDA-4745-8615-F7CCC24C2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083D5E-4360-4D86-ADDE-F8D72BDF4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11CC9-305C-421D-9821-9A0E143A3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FCAC9-6A8F-482C-AD78-E60077FD6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1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6A7D8E-702B-4802-AE76-3A060394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36ADBED-9302-44FB-BB7F-D02FA089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8EB8F8-1B74-4761-B9D8-039ABBD3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86CB0B-F0AB-46B0-8E9F-F70C298D8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7B704-BD4C-4E6F-89E1-FB24C782B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354BB04-1FDE-4A77-83F6-103242CAA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B2A3F-D297-4A1C-AB71-FC06A6966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6496C2-AAF4-40DE-8C16-CEF48DE31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6F1338-15AD-40FE-92E9-6531EDEAA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907916-F8B2-4AB9-90D0-FDE2A2C88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1C9AEC-33BC-4FB4-A88F-6B85337B7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9B896F-B0CB-45F4-A6BD-D21167D3A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08DA52-C08E-4BE8-97F0-98139D292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9F27A7-8447-4479-8871-0D1299AC7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99F34B-2B6A-4EB2-B78B-F886105D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87263-B33B-4969-BEA6-001003684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30254-8A53-4D93-AA57-B288CFE0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2F2CD-F1E1-47E7-91FD-B91A70963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2537F-69EF-4B96-802A-EB91813EB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5EE3-67C9-46B0-8431-F12B86A65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A08D7-0860-4CAC-BC3D-5152BF775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12E1D-A9FD-41CB-BE9C-B3F724E05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13FDE-631A-4DE4-BB4A-3790B0B9E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74F1B-66FF-441A-B324-43BD8DF6E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7245F7-BBDF-46E4-BA35-3F7DF0A46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1FBF9-7E01-4E79-AB49-B4332F6A8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F4DF-FB99-4B9F-B570-569D6BA60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779427-0830-41F5-8C34-09F633BF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8295E-9DC6-41A6-8F54-1575B700A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CA18-2CCD-4780-9679-72C4D79B7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607D8-0A3E-4024-9B73-2C5F6AC18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22C266-9819-422C-B526-07215481E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E41EF-93D5-43CC-87D1-B682C75A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4CB1C1-A31D-4992-8E72-8CE4AE84A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05568-CF3F-4390-B3DE-905F104C8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2892E-9C05-4397-A23E-C3E9E84F6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1619FF-05D0-4BE6-8B71-FA99AE4F8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CF46B-7850-467F-97EF-D08C6987B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51648C-D3FB-4AEA-8A07-ACE54FD66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571B8-3806-41E0-915A-F879FBD70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11E5-69FB-478F-8C06-3B1C8544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25AC6A-C97C-4377-BC10-4AF24E9C4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D562B3-D316-475D-8979-5F02A8500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66C2AB-CEAC-4F1F-98FC-F9661C922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DEBA3A-62E8-434B-BE88-F9C447CEF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222346-26E7-4A24-A02F-5D159E9EF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FC9E55-C5C8-4B54-BE63-1AD73EBA8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851AA-D4C2-4772-AA68-3F349818D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39C99A-899E-4C75-9323-D3FBD0611A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BBF1B-131A-4170-AED4-D33449FB8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3B2391-D72C-4812-9CD0-6AA230392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95022-8D08-4141-B833-4B1F2E78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6E0F5-5758-4D9E-8880-D513A345D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5D668A-1761-4D29-A805-97FFEFF50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42226-BDCA-44BD-B54D-A0403796B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E544C5-3337-43D0-A712-E555B052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C8C26-0567-4CDE-B8B3-28F430A1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FD1BA-58D1-4619-BA67-C70268017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436F8F-3444-42E8-B453-FA28A6969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8F2917-83B5-43A1-AEB5-667D9A17D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14B27-D2CA-4E2F-ABC0-DA6442054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C2F348-3FAC-4FF0-A71E-9660AD328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96AA-F8CA-4A56-807A-33F20BA27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A7772A-1A71-447A-B3B2-0A6BB20D4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FFCA27-6AD2-4E2E-9E4B-BA4441AA9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1F148-65E6-481E-93C5-F883A7E3C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4BE12-6C3B-4DA2-88E7-5C97D74B6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6A23DF-1B30-43FB-A4A2-D95BA2BC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239E42-0C43-4632-AB41-AC9D6CE45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627D06-DFCA-4BDD-B2A6-D3D400A2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946597-8D29-4C14-BC4E-376A8C1FD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A6DA68-4600-485E-89E1-61B13EFA2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72AB66-6E28-4D2D-9A8D-0B510BF3B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CCFE1-85F7-4D2B-9D2E-B0F1C8D40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023B4A-5CA8-4149-866F-936F45518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EEC35D-DF4F-4B0C-8084-11E99326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BF843C-0ABB-44E5-A0FA-1711CD993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83966-62C5-4A29-9D1D-01D183EC8F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24450-A84C-4003-AD5B-170D8389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FC35E2-3666-4DA2-83A5-19831CD0A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7A9034-75CF-4A78-9FC5-884B26408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1A30A9-77D2-4788-AA49-6E2983ED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BD88B9-EA9C-4769-8590-AD352ECB5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5D817F-0EF5-4B3B-AF0A-A4387E8CD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CE1D-3C7D-406D-B157-FD734DFDC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0E4C38-970C-407B-B3EE-CB325A0B8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BDD07-6010-48F2-A9CB-2A161E6E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8C622B-85FA-43BA-8EE6-F50DEF87D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51A1CA-3449-4C8D-8FE9-9FBEBC7D2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23635-9F71-4778-AAA0-00A2B042A0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47B4A9-DA06-4DCD-99AE-EAA700F9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313AEF-AEBF-4185-AF3A-0F166BC10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D203CC-F1D7-418D-A7F4-29D803D8C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464A6-7EC7-4FB1-AE10-7960084A5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BF057E-82CE-4B10-8138-939076FF3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BFE6-511C-4488-918F-97EA6773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809640" y="447840"/>
            <a:ext cx="752472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42263D-8809-4D03-AD03-1C426EBD4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76C4D-C7A4-4FF0-9B41-A53DE63C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8979C-4AA0-4202-9F2A-9DFEDD028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BB47E4-350D-40A8-82A5-ED15CE02A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809640" y="4104360"/>
            <a:ext cx="7524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E81D2E-DAFE-4455-B284-22546A25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65600" y="218448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80964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65600" y="4104360"/>
            <a:ext cx="3672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4630E1-9796-499E-9D10-D65C24A8A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5412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898240" y="218448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8096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5412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5898240" y="4104360"/>
            <a:ext cx="2422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4328C9-0137-4F4C-A82F-27A98033AD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A65493-3264-490B-9FD3-1E0AF1D44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spcAft>
                <a:spcPts val="60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3AF663-2CFB-40C7-A528-FA6A5AFD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451"/>
              </a:spcBef>
              <a:spcAft>
                <a:spcPts val="601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621042-0A91-4F9F-B494-D8E86D3C1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163AB-D3CA-4649-A06D-8D6477399089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0" name="Freeform 6"/>
          <p:cNvGrpSpPr/>
          <p:nvPr/>
        </p:nvGrpSpPr>
        <p:grpSpPr>
          <a:xfrm>
            <a:off x="480960" y="1335240"/>
            <a:ext cx="4761000" cy="3249360"/>
            <a:chOff x="480960" y="1335240"/>
            <a:chExt cx="4761000" cy="3249360"/>
          </a:xfrm>
        </p:grpSpPr>
        <p:pic>
          <p:nvPicPr>
            <p:cNvPr id="391" name="Freeform 6" descr=""/>
            <p:cNvPicPr/>
            <p:nvPr/>
          </p:nvPicPr>
          <p:blipFill>
            <a:blip r:embed="rId2"/>
            <a:stretch/>
          </p:blipFill>
          <p:spPr>
            <a:xfrm>
              <a:off x="480960" y="1335240"/>
              <a:ext cx="4761000" cy="324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"/>
            <p:cNvSpPr/>
            <p:nvPr/>
          </p:nvSpPr>
          <p:spPr>
            <a:xfrm>
              <a:off x="485640" y="1338120"/>
              <a:ext cx="4748400" cy="324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8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9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30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55B50-6FF4-4133-9FFF-8374932C8645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4" name="Freeform 6"/>
          <p:cNvGrpSpPr/>
          <p:nvPr/>
        </p:nvGrpSpPr>
        <p:grpSpPr>
          <a:xfrm>
            <a:off x="847800" y="2279520"/>
            <a:ext cx="3687840" cy="2517840"/>
            <a:chOff x="847800" y="2279520"/>
            <a:chExt cx="3687840" cy="2517840"/>
          </a:xfrm>
        </p:grpSpPr>
        <p:pic>
          <p:nvPicPr>
            <p:cNvPr id="435" name="Freeform 6" descr=""/>
            <p:cNvPicPr/>
            <p:nvPr/>
          </p:nvPicPr>
          <p:blipFill>
            <a:blip r:embed="rId2"/>
            <a:stretch/>
          </p:blipFill>
          <p:spPr>
            <a:xfrm>
              <a:off x="847800" y="2279520"/>
              <a:ext cx="3687840" cy="25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6" name=""/>
            <p:cNvSpPr/>
            <p:nvPr/>
          </p:nvSpPr>
          <p:spPr>
            <a:xfrm>
              <a:off x="855720" y="2286000"/>
              <a:ext cx="3672000" cy="250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 type="dt" idx="31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 type="ftr" idx="32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 type="sldNum" idx="33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A7005-A72D-4ED2-8051-7DA0AEB0B844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8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479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0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 type="dt" idx="34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 type="ftr" idx="35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 type="sldNum" idx="36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5F32-59AE-49BF-961F-F2EB536D778F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2" name="Freeform 6"/>
          <p:cNvGrpSpPr/>
          <p:nvPr/>
        </p:nvGrpSpPr>
        <p:grpSpPr>
          <a:xfrm>
            <a:off x="5748480" y="438120"/>
            <a:ext cx="3402000" cy="5426280"/>
            <a:chOff x="5748480" y="438120"/>
            <a:chExt cx="3402000" cy="5426280"/>
          </a:xfrm>
        </p:grpSpPr>
        <p:pic>
          <p:nvPicPr>
            <p:cNvPr id="523" name="Freeform 6" descr=""/>
            <p:cNvPicPr/>
            <p:nvPr/>
          </p:nvPicPr>
          <p:blipFill>
            <a:blip r:embed="rId2"/>
            <a:stretch/>
          </p:blipFill>
          <p:spPr>
            <a:xfrm>
              <a:off x="5748480" y="438120"/>
              <a:ext cx="3402000" cy="5426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"/>
            <p:cNvSpPr/>
            <p:nvPr/>
          </p:nvSpPr>
          <p:spPr>
            <a:xfrm>
              <a:off x="5751360" y="446040"/>
              <a:ext cx="3392640" cy="541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25" name="AutoShape 4"/>
          <p:cNvSpPr/>
          <p:nvPr/>
        </p:nvSpPr>
        <p:spPr>
          <a:xfrm>
            <a:off x="5234040" y="0"/>
            <a:ext cx="3909960" cy="58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dt" idx="37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ftr" idx="38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sldNum" idx="39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9FC8-D6AB-4706-A051-C05608A01652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Freeform 6"/>
          <p:cNvGrpSpPr/>
          <p:nvPr/>
        </p:nvGrpSpPr>
        <p:grpSpPr>
          <a:xfrm>
            <a:off x="-6480" y="-12600"/>
            <a:ext cx="9156960" cy="5217840"/>
            <a:chOff x="-6480" y="-12600"/>
            <a:chExt cx="9156960" cy="5217840"/>
          </a:xfrm>
        </p:grpSpPr>
        <p:pic>
          <p:nvPicPr>
            <p:cNvPr id="42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12600"/>
              <a:ext cx="9156960" cy="521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0" y="-3240"/>
              <a:ext cx="9144000" cy="52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4F5A5-D8FF-4F38-8E72-DBFD5ED13C18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86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03565-F75C-451F-95DD-54ECCE5FB609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Freeform 7"/>
          <p:cNvGrpSpPr/>
          <p:nvPr/>
        </p:nvGrpSpPr>
        <p:grpSpPr>
          <a:xfrm>
            <a:off x="-6480" y="-6480"/>
            <a:ext cx="9156960" cy="5218200"/>
            <a:chOff x="-6480" y="-6480"/>
            <a:chExt cx="9156960" cy="5218200"/>
          </a:xfrm>
        </p:grpSpPr>
        <p:pic>
          <p:nvPicPr>
            <p:cNvPr id="130" name="Freeform 7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52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0" y="0"/>
              <a:ext cx="9144000" cy="52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B143-8DB2-43B0-9163-FB35F6CADD1F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174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5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CC88B-F124-441B-B4D2-2B85A0D4DAC2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218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21E03-F2AB-4F4A-A688-0070960595CF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Freeform 6"/>
          <p:cNvGrpSpPr/>
          <p:nvPr/>
        </p:nvGrpSpPr>
        <p:grpSpPr>
          <a:xfrm>
            <a:off x="-6480" y="-6480"/>
            <a:ext cx="9156960" cy="2200320"/>
            <a:chOff x="-6480" y="-6480"/>
            <a:chExt cx="9156960" cy="2200320"/>
          </a:xfrm>
        </p:grpSpPr>
        <p:pic>
          <p:nvPicPr>
            <p:cNvPr id="262" name="Freeform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9156960" cy="220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3" name=""/>
            <p:cNvSpPr/>
            <p:nvPr/>
          </p:nvSpPr>
          <p:spPr>
            <a:xfrm>
              <a:off x="0" y="0"/>
              <a:ext cx="9144000" cy="218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FDD93-9205-4064-8CC7-A054DA124EE4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Freeform 6"/>
          <p:cNvGrpSpPr/>
          <p:nvPr/>
        </p:nvGrpSpPr>
        <p:grpSpPr>
          <a:xfrm>
            <a:off x="798480" y="438120"/>
            <a:ext cx="2670120" cy="1828800"/>
            <a:chOff x="798480" y="438120"/>
            <a:chExt cx="2670120" cy="1828800"/>
          </a:xfrm>
        </p:grpSpPr>
        <p:pic>
          <p:nvPicPr>
            <p:cNvPr id="306" name="Freeform 6" descr=""/>
            <p:cNvPicPr/>
            <p:nvPr/>
          </p:nvPicPr>
          <p:blipFill>
            <a:blip r:embed="rId2"/>
            <a:stretch/>
          </p:blipFill>
          <p:spPr>
            <a:xfrm>
              <a:off x="798480" y="438120"/>
              <a:ext cx="267012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804960" y="446040"/>
              <a:ext cx="2660400" cy="18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912000" y="6041520"/>
            <a:ext cx="9921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442800" y="6041520"/>
            <a:ext cx="62899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790416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60F37-CFE7-476D-A09C-973E99718DF9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21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809640" y="447840"/>
            <a:ext cx="7524720" cy="969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fefefe"/>
                </a:solidFill>
                <a:latin typeface="Century Gothic"/>
              </a:rPr>
              <a:t>Click to edit the title text format</a:t>
            </a: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809640" y="2184480"/>
            <a:ext cx="7524720" cy="36748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lIns="90000" rIns="90000" tIns="46800" bIns="46800"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3" marL="16002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5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6" marL="2057400" indent="-228600">
              <a:spcBef>
                <a:spcPts val="451"/>
              </a:spcBef>
              <a:spcAft>
                <a:spcPts val="601"/>
              </a:spcAft>
              <a:buClr>
                <a:srgbClr val="ffffff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2914200" y="6041520"/>
            <a:ext cx="731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442800" y="6041520"/>
            <a:ext cx="2471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3646440" y="5916240"/>
            <a:ext cx="7970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10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2000" spc="-1" strike="noStrike">
                <a:solidFill>
                  <a:srgbClr val="00c6b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05A3C-095E-4C7F-B818-E04DDB059DC6}" type="slidenum">
              <a:rPr b="0" lang="pl-PL" sz="2000" spc="-1" strike="noStrike">
                <a:solidFill>
                  <a:srgbClr val="00c6bb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jpe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4724280" cy="29494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4648320" y="-12600"/>
            <a:ext cx="4495680" cy="29620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0" y="3795840"/>
            <a:ext cx="4876920" cy="306216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8" descr=""/>
          <p:cNvPicPr/>
          <p:nvPr/>
        </p:nvPicPr>
        <p:blipFill>
          <a:blip r:embed="rId4"/>
          <a:stretch/>
        </p:blipFill>
        <p:spPr>
          <a:xfrm>
            <a:off x="4648320" y="3795840"/>
            <a:ext cx="4495680" cy="3062160"/>
          </a:xfrm>
          <a:prstGeom prst="rect">
            <a:avLst/>
          </a:prstGeom>
          <a:ln w="0">
            <a:noFill/>
          </a:ln>
        </p:spPr>
      </p:pic>
      <p:pic>
        <p:nvPicPr>
          <p:cNvPr id="571" name="Obraz 1" descr=""/>
          <p:cNvPicPr/>
          <p:nvPr/>
        </p:nvPicPr>
        <p:blipFill>
          <a:blip r:embed="rId5"/>
          <a:stretch/>
        </p:blipFill>
        <p:spPr>
          <a:xfrm>
            <a:off x="706320" y="2797200"/>
            <a:ext cx="8035920" cy="1249200"/>
          </a:xfrm>
          <a:prstGeom prst="rect">
            <a:avLst/>
          </a:prstGeom>
          <a:ln w="9360">
            <a:solidFill>
              <a:srgbClr val="00c6bb"/>
            </a:solidFill>
            <a:miter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968360" y="4003200"/>
            <a:ext cx="414036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entury Gothic"/>
              </a:rPr>
              <a:t>Dr inż. Piotr Ponichtera</a:t>
            </a:r>
            <a:br>
              <a:rPr sz="1800"/>
            </a:br>
            <a:r>
              <a:rPr b="1" lang="pl-PL" sz="1800" spc="-1" strike="noStrike">
                <a:solidFill>
                  <a:srgbClr val="ffffff"/>
                </a:solidFill>
                <a:latin typeface="Century Gothic"/>
              </a:rPr>
              <a:t>Wyższa Szkoła Agrobiznesu w Łomży</a:t>
            </a:r>
            <a:endParaRPr b="1" lang="en-US" sz="18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73" name="Obraz 7" descr=""/>
          <p:cNvPicPr/>
          <p:nvPr/>
        </p:nvPicPr>
        <p:blipFill>
          <a:blip r:embed="rId6"/>
          <a:stretch/>
        </p:blipFill>
        <p:spPr>
          <a:xfrm>
            <a:off x="1547640" y="6081840"/>
            <a:ext cx="5749920" cy="793800"/>
          </a:xfrm>
          <a:prstGeom prst="rect">
            <a:avLst/>
          </a:prstGeom>
          <a:ln w="0">
            <a:noFill/>
          </a:ln>
        </p:spPr>
      </p:pic>
      <p:sp>
        <p:nvSpPr>
          <p:cNvPr id="574" name="Prostokąt 8"/>
          <p:cNvSpPr/>
          <p:nvPr/>
        </p:nvSpPr>
        <p:spPr>
          <a:xfrm>
            <a:off x="306360" y="115920"/>
            <a:ext cx="8531280" cy="106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9413a"/>
                </a:solidFill>
                <a:latin typeface="BundesSerif Regular"/>
                <a:ea typeface="Times New Roman"/>
              </a:rPr>
              <a:t>„</a:t>
            </a:r>
            <a:r>
              <a:rPr b="0" lang="de-DE" sz="1600" spc="-1" strike="noStrike">
                <a:solidFill>
                  <a:srgbClr val="39413a"/>
                </a:solidFill>
                <a:latin typeface="BundesSerif Regular"/>
                <a:ea typeface="Times New Roman"/>
              </a:rPr>
              <a:t>UPSKILLING - wsparcie studentów i pracowników prowadzących kształcenie na wybranych kierunkach studiów w Międzynarodowej Akademii Nauk Stosowanych w Łomży”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9413a"/>
                </a:solidFill>
                <a:latin typeface="BundesSerif Regular"/>
                <a:ea typeface="Times New Roman"/>
              </a:rPr>
              <a:t>Nr.  FERS.01.05-IP.08-0278/23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Bioróżnorodność roślin i zwierząt udomowionych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3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Różnorodność miejscowych form roślin uprawnych: 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około 900 odmian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Różnorodność miejscowych ras zwierząt gospodarskich: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215 ras rodzimy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09480" y="76320"/>
            <a:ext cx="7772400" cy="1371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Bioróżnorodność gatunków dzikich</a:t>
            </a:r>
            <a:r>
              <a:rPr b="1" lang="pl-PL" sz="4000" spc="-1" strike="noStrike">
                <a:solidFill>
                  <a:srgbClr val="fefefe"/>
                </a:solidFill>
                <a:latin typeface="Century Gothic"/>
              </a:rPr>
              <a:t> </a:t>
            </a:r>
            <a:br>
              <a:rPr sz="4000"/>
            </a:br>
            <a:endParaRPr b="1" lang="en-US" sz="40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5" name=""/>
          <p:cNvSpPr txBox="1"/>
          <p:nvPr/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ochrona ptaków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ochrona roślin nazywanych chwastam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ochrona krajobrazu terenów rolniczy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7772400" cy="144756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Bioróżnorodność gatunków dzikich</a:t>
            </a:r>
            <a:r>
              <a:rPr b="1" lang="pl-PL" sz="4000" spc="-1" strike="noStrike">
                <a:solidFill>
                  <a:srgbClr val="fefefe"/>
                </a:solidFill>
                <a:latin typeface="Century Gothic"/>
              </a:rPr>
              <a:t> </a:t>
            </a:r>
            <a:br>
              <a:rPr sz="4000"/>
            </a:br>
            <a:r>
              <a:rPr b="1" lang="pl-PL" sz="2400" spc="-1" strike="noStrike">
                <a:solidFill>
                  <a:srgbClr val="fefefe"/>
                </a:solidFill>
                <a:latin typeface="Century Gothic"/>
              </a:rPr>
              <a:t>Ptaki krajobrazu rolniczego</a:t>
            </a:r>
            <a:endParaRPr b="1" lang="en-US" sz="2400" spc="-1" strike="noStrike">
              <a:solidFill>
                <a:srgbClr val="fefefe"/>
              </a:solidFill>
              <a:latin typeface="Century Gothic"/>
            </a:endParaRPr>
          </a:p>
        </p:txBody>
      </p:sp>
      <p:pic>
        <p:nvPicPr>
          <p:cNvPr id="597" name="Picture 1029" descr=""/>
          <p:cNvPicPr/>
          <p:nvPr/>
        </p:nvPicPr>
        <p:blipFill>
          <a:blip r:embed="rId1"/>
          <a:stretch/>
        </p:blipFill>
        <p:spPr>
          <a:xfrm>
            <a:off x="2095560" y="1989000"/>
            <a:ext cx="4800600" cy="41148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</p:pic>
      <p:sp>
        <p:nvSpPr>
          <p:cNvPr id="598" name="Text Box 1028"/>
          <p:cNvSpPr/>
          <p:nvPr/>
        </p:nvSpPr>
        <p:spPr>
          <a:xfrm>
            <a:off x="1040040" y="6102360"/>
            <a:ext cx="650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Drop -  Otis tarda - wyginął w Polsce około </a:t>
            </a:r>
            <a:r>
              <a:rPr b="1" lang="pl-PL" sz="2400" spc="-1" strike="noStrike">
                <a:solidFill>
                  <a:srgbClr val="ffffff"/>
                </a:solidFill>
                <a:latin typeface="Times New Roman"/>
              </a:rPr>
              <a:t>1986</a:t>
            </a: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!!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Ochrona ptaków  obszarów  rolniczych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809640" y="2222640"/>
            <a:ext cx="7524720" cy="3636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zachowanie otwartych przestrzeni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zachowanie jak najbardziej urozmaiconych siedlisk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zachowanie zbiorników wodnych wśród pól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Ochrona ptaków jest korzystna dla ludzi!!1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Przyczyny ginięcia chwastów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4400" y="2133720"/>
            <a:ext cx="9144000" cy="45338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INTENSYFIKACJA ROLNICTWA</a:t>
            </a:r>
            <a:r>
              <a:rPr b="1" lang="pl-PL" sz="18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zmniejszenie powierzchni marginesów ekologicznych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 (siedlisk marginalnych). Były nimi miedze i skrawki gruntów wyłączonych bezpośrednio z użytkowania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chemizacji upraw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 (głównie stosowania herbicydów), działających wybiórczo na określone grupy roślin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zaniechanie prawidłowego zmianowania upraw i nawożenia organicznego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 - na korzyść monokultur i stosowania nawozów mineralnych oraz intensywne nawożenie mineralne.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staranne </a:t>
            </a:r>
            <a:r>
              <a:rPr b="1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sortowanie materiału siewnego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wprowadzanie nowych upraw, </a:t>
            </a:r>
            <a:r>
              <a:rPr b="1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zaniechanie upraw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 </a:t>
            </a:r>
            <a:r>
              <a:rPr b="1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“tradycyjnych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”, np. lnu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mechanizacja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</a:rPr>
              <a:t>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3200" spc="-1" strike="noStrike">
                <a:solidFill>
                  <a:srgbClr val="fefefe"/>
                </a:solidFill>
                <a:latin typeface="Century Gothic"/>
              </a:rPr>
              <a:t>Ochrona chwastów</a:t>
            </a:r>
            <a:endParaRPr b="1" lang="en-US" sz="32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250920" y="1844280"/>
            <a:ext cx="8610480" cy="4724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zachowanie uprawy roślin tradycyjnych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ograniczanie stosowania herbicydów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pozostawianie pasa pola o szer. 1-3 m bez intensywnych zabiegów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celowe dosiewanie ( np. w ogródkach wiejskich, przy skansenach, muzeach, element zieleni urządzonej, itp.)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tworzenie „agrorezerwatów”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Ochrona zbiorowisk półnaturalnych - łąki i murawy 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Zasady ochrony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Łąki wilgotne – nie osuszać, użytkowanie 1-2 kośne, 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Łąki świeże – zachować dotychczasowe użytkowanie (na ogół – 3 kośne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Murawy piaskowe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szczotlichowe (oligotroficzne)– nie wydeptywać, zakaz wypalania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pl-PL" sz="1600" spc="-1" strike="noStrike">
                <a:solidFill>
                  <a:srgbClr val="ffffff"/>
                </a:solidFill>
                <a:latin typeface="Century Gothic"/>
              </a:rPr>
              <a:t>mezotroficzne – umiarkowany wypas</a:t>
            </a:r>
            <a:endParaRPr b="0" lang="en-US" sz="1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Ochrona zbiorowisk półnaturalnych - murawy i zarośla kserotermiczne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-360" y="1066320"/>
            <a:ext cx="8915400" cy="5791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Roślinność kserotermiczna (ciepłolubna) murawy ciepłolubne (stepowe), murawy napiaskowe, ciepłolubne zbiorowiska zaroślow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Zasady ochrony: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Nie zacieniać, nie wydeptywać nadmiernie, nie wypalać, umiarkowanie wypasać, chronić przed erozją, stosować ochronę częściową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Zadrzewienia - wg kształtu i rozmiaru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08000" y="1412640"/>
            <a:ext cx="8686800" cy="52578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lvl="2" marL="1143000" indent="-228600" algn="just"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just"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pojedyncze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</a:rPr>
              <a:t> - drzewa i krzewy sadzone luźno i niezależnie od siebie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just"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grupowe 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</a:rPr>
              <a:t>- drzewa i krzewy występują w kępach do kilkudziesięciu sztuk a ich powierzchnia nie przekracza 10 arów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just"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rzędowe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</a:rPr>
              <a:t> - drzewa i krzewy występują w jednym rzędzie o dowolnej długości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just"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pasowe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</a:rPr>
              <a:t> - drzewa i krzewy występują w dwóch i więcej równoległych rzędach o szerokości do 10 m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lvl="2" marL="1143000" indent="-228600" algn="just">
              <a:spcBef>
                <a:spcPts val="34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Century Gothic"/>
              </a:rPr>
              <a:t>powierzchniowe</a:t>
            </a:r>
            <a:r>
              <a:rPr b="0" lang="pl-PL" sz="1400" spc="-1" strike="noStrike">
                <a:solidFill>
                  <a:srgbClr val="ffffff"/>
                </a:solidFill>
                <a:latin typeface="Century Gothic"/>
              </a:rPr>
              <a:t> - zajmują obszar powyżej 10 arów. </a:t>
            </a:r>
            <a:endParaRPr b="0" lang="en-US" sz="1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just"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71640" y="404280"/>
            <a:ext cx="7772400" cy="8384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Zadrzewienia - wg miejsca występowania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68360" y="2276280"/>
            <a:ext cx="7772400" cy="48006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0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adrzewienia 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śródpolne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tworzące kępy lub pasy wśród pól, wzdłuż brzegów pól i użytków zielonych,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adrzewienia 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wokół zabudowań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- przy budynkach mieszkalnych i gospodarczych,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adrzewienia 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nadwodne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- wzdłuż różnego rodzaju cieków i zbiorników wodnych,</a:t>
            </a:r>
            <a:br>
              <a:rPr sz="2400"/>
            </a:b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adrzewienia 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parkowe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 tworzące parki i cmentarz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Obraz 1" descr=""/>
          <p:cNvPicPr/>
          <p:nvPr/>
        </p:nvPicPr>
        <p:blipFill>
          <a:blip r:embed="rId1"/>
          <a:stretch/>
        </p:blipFill>
        <p:spPr>
          <a:xfrm>
            <a:off x="395280" y="1773360"/>
            <a:ext cx="837072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3" name="Object 0"/>
          <p:cNvGraphicFramePr/>
          <p:nvPr/>
        </p:nvGraphicFramePr>
        <p:xfrm>
          <a:off x="227160" y="304920"/>
          <a:ext cx="8689680" cy="64976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614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7160" y="304920"/>
                    <a:ext cx="8689680" cy="64976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0" dir="0" blurRad="0" rotWithShape="0">
                      <a:srgbClr val="000000">
                        <a:alpha val="4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Zasady kształtowania krajobrazów rolniczych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0" y="137124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Ochrona i kształtowanie bogatej struktury ekologicznej krajobrazu rolniczego (zadrzewienia, płaty leśne, oczka wodne, miedze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Zachowanie mozaiki zbiorowisk naturalnych, półnaturalnych i antropogeniczny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Hamowanie komasacji pól – ochrona miedz (i chwastów)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Zasady kształtowania krajobrazów rolniczych c.d.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3480" y="1628640"/>
            <a:ext cx="9144000" cy="4724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Rozwój sieci zadrzewień w obszarach rolniczy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Na terenach chronionych – przywrócenie tradycyjnego krajobrazu rolniczego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Ochrona wód - ochrona zbiorników śródpolnych, zagospodarowanie strefy brzegowej przez roślinność - najlepiej naturalną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0" y="69660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Zasady kształtowania krajobrazów rolniczych c.d.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108000" y="1844280"/>
            <a:ext cx="9144000" cy="4724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Obudowa roślinnością obiektów  brzydkich czy szkodliwych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Edukacja ekologiczna ludności wiejskiej (ochrona zadrzewień, zakaz wypalania roślinności, zakaz nieuregulowanego wyrzucania śmieci i wylewania ścieków, dbałość o estetykę otoczenia</a:t>
            </a:r>
            <a:r>
              <a:rPr b="0" lang="pl-PL" sz="2800" spc="-1" strike="noStrike">
                <a:solidFill>
                  <a:srgbClr val="ffffff"/>
                </a:solidFill>
                <a:latin typeface="Century Gothic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621" name="Obraz 3" descr=""/>
          <p:cNvPicPr/>
          <p:nvPr/>
        </p:nvPicPr>
        <p:blipFill>
          <a:blip r:embed="rId1"/>
          <a:stretch/>
        </p:blipFill>
        <p:spPr>
          <a:xfrm>
            <a:off x="1697040" y="6064200"/>
            <a:ext cx="5749920" cy="793800"/>
          </a:xfrm>
          <a:prstGeom prst="rect">
            <a:avLst/>
          </a:prstGeom>
          <a:ln w="0">
            <a:noFill/>
          </a:ln>
        </p:spPr>
      </p:pic>
      <p:sp>
        <p:nvSpPr>
          <p:cNvPr id="622" name="Prostokąt 1"/>
          <p:cNvSpPr/>
          <p:nvPr/>
        </p:nvSpPr>
        <p:spPr>
          <a:xfrm>
            <a:off x="306360" y="115920"/>
            <a:ext cx="8531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9413a"/>
                </a:solidFill>
                <a:latin typeface="BundesSerif Regular"/>
                <a:ea typeface="Times New Roman"/>
              </a:rPr>
              <a:t>„</a:t>
            </a:r>
            <a:r>
              <a:rPr b="0" lang="de-DE" sz="1600" spc="-1" strike="noStrike">
                <a:solidFill>
                  <a:srgbClr val="39413a"/>
                </a:solidFill>
                <a:latin typeface="BundesSerif Regular"/>
                <a:ea typeface="Times New Roman"/>
              </a:rPr>
              <a:t>UPSKILLING - wsparcie studentów i pracowników prowadzących kształcenie na wybranych kierunkach studiów w Międzynarodowej Akademii Nauk Stosowanych w Łomży” 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39413a"/>
                </a:solidFill>
                <a:latin typeface="BundesSerif Regular"/>
                <a:ea typeface="Times New Roman"/>
              </a:rPr>
              <a:t>Nr.  FERS.01.05-IP.08-0278/23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  <a:ea typeface="Arial Unicode MS"/>
              </a:rPr>
              <a:t>Krajobraz rolniczy - czy warto go chronić?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77" name=""/>
          <p:cNvSpPr txBox="1"/>
          <p:nvPr/>
        </p:nvSpPr>
        <p:spPr>
          <a:xfrm>
            <a:off x="685800" y="2180880"/>
            <a:ext cx="7772400" cy="4343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Krajobraz rolniczy jest krajobrazem ze znacznym udziałem elementów antropogenicznych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Century Gothic"/>
                <a:ea typeface="Arial Unicode MS"/>
              </a:rPr>
              <a:t>Na pozór jest to krajobraz niesprzyjający dzikiej przyrodzie, w rzeczywistości zamieszkany jest przez bogaty świat roślin i zwierząt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Systematyka zbiorowisk roślinnych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228600" y="1669680"/>
            <a:ext cx="8686800" cy="57913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Zbiorowiska autogeniczne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- stanowią pierwotną kombinacje gatunków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p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ierwot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 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aturalne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Zbiorowiska antropogeniczne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- powstały pod wpływem czynników zale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</a:rPr>
              <a:t>ż</a:t>
            </a:r>
            <a:r>
              <a:rPr b="0" lang="pl-PL" sz="1800" spc="-1" strike="noStrike">
                <a:solidFill>
                  <a:srgbClr val="ffffff"/>
                </a:solidFill>
                <a:latin typeface="Century Gothic"/>
                <a:ea typeface="Times New Roman"/>
              </a:rPr>
              <a:t>nych od człowieka, jako wtórna kombinacja gatunków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c6bb"/>
                </a:solidFill>
                <a:latin typeface="Century Gothic"/>
                <a:ea typeface="Times New Roman"/>
              </a:rPr>
              <a:t>półnaturalne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l-PL" sz="3200" spc="-1" strike="noStrike">
                <a:solidFill>
                  <a:srgbClr val="00c6bb"/>
                </a:solidFill>
                <a:latin typeface="Century Gothic"/>
              </a:rPr>
              <a:t>s</a:t>
            </a:r>
            <a:r>
              <a:rPr b="0" lang="pl-PL" sz="3200" spc="-1" strike="noStrike">
                <a:solidFill>
                  <a:srgbClr val="00c6bb"/>
                </a:solidFill>
                <a:latin typeface="Century Gothic"/>
                <a:ea typeface="Times New Roman"/>
              </a:rPr>
              <a:t>ynantropijne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800" spc="-1" strike="noStrike">
                <a:solidFill>
                  <a:srgbClr val="00c6bb"/>
                </a:solidFill>
                <a:latin typeface="Century Gothic"/>
              </a:rPr>
              <a:t>segetal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4" marL="2057400" indent="-22860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pl-PL" sz="2800" spc="-1" strike="noStrike">
                <a:solidFill>
                  <a:srgbClr val="00c6bb"/>
                </a:solidFill>
                <a:latin typeface="Century Gothic"/>
              </a:rPr>
              <a:t>ruderalne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buClr>
                <a:srgbClr val="00c6bb"/>
              </a:buClr>
              <a:buFont typeface="Wingdings" charset="2"/>
              <a:buChar char="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80" name="AutoShape 4"/>
          <p:cNvSpPr/>
          <p:nvPr/>
        </p:nvSpPr>
        <p:spPr>
          <a:xfrm>
            <a:off x="4584600" y="5937120"/>
            <a:ext cx="1067040" cy="228600"/>
          </a:xfrm>
          <a:custGeom>
            <a:avLst/>
            <a:gdLst>
              <a:gd name="textAreaLeft" fmla="*/ 166680 w 1067040"/>
              <a:gd name="textAreaRight" fmla="*/ 933840 w 106704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c6bb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5943600" y="5702400"/>
            <a:ext cx="230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Times New Roman"/>
              </a:rPr>
              <a:t>W  krajobrazach rolniczyc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Różnorodność biologiczna i krajobrazowa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0" y="1535040"/>
            <a:ext cx="9144000" cy="56390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Różnorodność biologiczna i krajobrazowa obszarów wiejskich Polski należy do najbogatszych w Europie.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1" lang="pl-PL" sz="2400" spc="-1" strike="noStrike">
                <a:solidFill>
                  <a:srgbClr val="ffffff"/>
                </a:solidFill>
                <a:latin typeface="Century Gothic"/>
              </a:rPr>
              <a:t>Zachowane dotąd wartości przyrodnicze i krajobrazowe polskich terenów wiejskich, wynikające z tradycyjnych metod rolniczych, są wartością coraz bardziej dostrzeganą w Europie i mogą stać się – obok wysokiej jakości żywności – międzynarodową  wizytówką polskiej wsi</a:t>
            </a: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0" y="49356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Główne zagrożenia wartości przyrodniczych i kulturowych wsi polskiej</a:t>
            </a:r>
            <a:br>
              <a:rPr sz="2800"/>
            </a:b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 fontScale="97000"/>
          </a:bodyPr>
          <a:p>
            <a:pPr marL="332640" indent="-33264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Century Gothic"/>
              </a:rPr>
              <a:t>INTENSYFIKACJA ROLNICTWA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Zmiany struktury agrarnej – powiększanie pól połączone z likwidowaniem cennych użytków przyrodniczych, upraszczaniem struktury krajobrazu wiejskiego i z wprowadzaniem monokulturowych upraw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Intensyfikacja gospodarki rolnej prowadząca do nasilenia się erozji gleb, zmian warunków wodnych (melioracje), chemizacji, intensyfikacja zabiegów rolniczych ( orka pożniwna, bronowanie, itp.)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Nadmierna intensyfikacja gospodarki łąkarskiej lub pastwiskowej (wczesne terminy koszenia i  wypasów, zwiększanie obsady zwierząt)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Zanik lokalnych ras zwierząt gospodarskich i lokalnych odmian roślin uprawnych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32640" indent="-33264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0" y="853920"/>
            <a:ext cx="9144000" cy="990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3200"/>
            </a:br>
            <a:r>
              <a:rPr b="1" lang="pl-PL" sz="2800" spc="-1" strike="noStrike">
                <a:solidFill>
                  <a:srgbClr val="ffffff"/>
                </a:solidFill>
                <a:latin typeface="Century Gothic"/>
              </a:rPr>
              <a:t>Główne zagrożenia wartości przyrodniczych i kulturowych wsi polskiej</a:t>
            </a:r>
            <a:br>
              <a:rPr sz="2800"/>
            </a:b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400" spc="-1" strike="noStrike">
                <a:solidFill>
                  <a:srgbClr val="ffffff"/>
                </a:solidFill>
                <a:latin typeface="Century Gothic"/>
              </a:rPr>
              <a:t>EKSTENSYFIKACJA  ROLNICTWA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 algn="ctr">
              <a:spcBef>
                <a:spcPts val="601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Century Gothic"/>
              </a:rPr>
              <a:t>Zaniedbywanie lub zaniechanie użytkowania łąk i pastwisk, które przekształcają się w tereny zadrzewione</a:t>
            </a:r>
            <a:r>
              <a:rPr b="1" lang="pl-PL" sz="2400" spc="-1" strike="noStrike">
                <a:solidFill>
                  <a:srgbClr val="3b3c3e"/>
                </a:solidFill>
                <a:latin typeface="Century Gothic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Bioróżnorodność terenów rolniczych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89" name=""/>
          <p:cNvSpPr txBox="1"/>
          <p:nvPr/>
        </p:nvSpPr>
        <p:spPr>
          <a:xfrm>
            <a:off x="809640" y="2222640"/>
            <a:ext cx="7524720" cy="36367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600" spc="-1" strike="noStrike">
                <a:solidFill>
                  <a:srgbClr val="ffffff"/>
                </a:solidFill>
                <a:latin typeface="Century Gothic"/>
              </a:rPr>
              <a:t>Z rolniczego punktu widzenia wyróżniamy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649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Century Gothic"/>
              </a:rPr>
              <a:t>różnorodność biologiczną gatunków, odmian, ras roślin i zwierząt udomowionych, czyli uprawianych i hodowanych przez człowieka.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743040" indent="-285840"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1" lang="pl-PL" sz="2200" spc="-1" strike="noStrike">
                <a:solidFill>
                  <a:srgbClr val="ffffff"/>
                </a:solidFill>
                <a:latin typeface="Century Gothic"/>
              </a:rPr>
              <a:t>różnorodność biologiczną dzikich gatunków roślin i zwierząt żyjących na terenach rolniczych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550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60000"/>
              </a:srgbClr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2800" spc="-1" strike="noStrike">
                <a:solidFill>
                  <a:srgbClr val="fefefe"/>
                </a:solidFill>
                <a:latin typeface="Century Gothic"/>
              </a:rPr>
              <a:t>Bioróżnorodność roślin i zwierząt udomowionych</a:t>
            </a:r>
            <a:endParaRPr b="1" lang="en-US" sz="2800" spc="-1" strike="noStrike">
              <a:solidFill>
                <a:srgbClr val="fefefe"/>
              </a:solidFill>
              <a:latin typeface="Century Gothic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40000"/>
              </a:srgbClr>
            </a:outerShdw>
          </a:effectLst>
        </p:spPr>
        <p:txBody>
          <a:bodyPr anchor="ctr">
            <a:normAutofit/>
          </a:bodyPr>
          <a:p>
            <a:pPr marL="343080" indent="-343080" algn="ctr">
              <a:spcBef>
                <a:spcPts val="550"/>
              </a:spcBef>
              <a:spcAft>
                <a:spcPts val="60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2200" spc="-1" strike="noStrike">
                <a:solidFill>
                  <a:srgbClr val="ffffff"/>
                </a:solidFill>
                <a:latin typeface="Century Gothic"/>
              </a:rPr>
              <a:t>	</a:t>
            </a:r>
            <a:r>
              <a:rPr b="0" lang="pl-PL" sz="2200" spc="-1" strike="noStrike">
                <a:solidFill>
                  <a:srgbClr val="ffffff"/>
                </a:solidFill>
                <a:latin typeface="Century Gothic"/>
              </a:rPr>
              <a:t>Ważniejsze odmiany </a:t>
            </a:r>
            <a:r>
              <a:rPr b="1" lang="pl-PL" sz="2200" spc="-1" strike="noStrike">
                <a:solidFill>
                  <a:srgbClr val="ffffff"/>
                </a:solidFill>
                <a:latin typeface="Century Gothic"/>
              </a:rPr>
              <a:t>jabłoni</a:t>
            </a:r>
            <a:r>
              <a:rPr b="0" lang="pl-PL" sz="2200" spc="-1" strike="noStrike">
                <a:solidFill>
                  <a:srgbClr val="ffffff"/>
                </a:solidFill>
                <a:latin typeface="Century Gothic"/>
              </a:rPr>
              <a:t> w przedwojennej Polsce: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Letnie</a:t>
            </a: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: 'Ananas Berżenicki', 'Charłamowskie', 'Grafsztynek Inflancki', 'Kalwila Letnia Fraas'a', 'Oliwka Inflancka', 'Różanka Wirgińska', 'Titówka’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Jesienne</a:t>
            </a: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: 'Aporta', 'Grafsztynek Prawdziwy', 'Antonówka Zwykła', 'Antonówka Półtorafuntowa', 'Glogierówka', 'Kalwila Czerwona Jesienna', 'Kosztela', 'Kronselska', 'Malinowa Oberlandzka', 'Rarytas Śląski', 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Wczesnozimowe</a:t>
            </a: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: 'Alant', 'Cesarz Wilhelm', 'Kantówka Gdańska', 'Kardynalskie', 'Koksa Pomarańczowa', 'Królowa Renet', 'Landsberska', 'Mank's Kchenapfel', 'Parmena Szkarłatna Zimowa', 'Pepina Linneusza', 'Pepina Ribstona', 'Piękna z Boskoop', 'Rajewskie', 'Szara Reneta'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  <a:p>
            <a:pPr marL="343080" indent="-343080">
              <a:spcBef>
                <a:spcPts val="476"/>
              </a:spcBef>
              <a:spcAft>
                <a:spcPts val="601"/>
              </a:spcAft>
              <a:buClr>
                <a:srgbClr val="00c6bb"/>
              </a:buClr>
              <a:buFont typeface="Wingdings 2" charset="2"/>
              <a:buChar char="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  </a:t>
            </a:r>
            <a:r>
              <a:rPr b="1" lang="pl-PL" sz="1900" spc="-1" strike="noStrike">
                <a:solidFill>
                  <a:srgbClr val="ffffff"/>
                </a:solidFill>
                <a:latin typeface="Century Gothic"/>
              </a:rPr>
              <a:t>Późnozimowe:</a:t>
            </a:r>
            <a:r>
              <a:rPr b="0" lang="pl-PL" sz="1900" spc="-1" strike="noStrike">
                <a:solidFill>
                  <a:srgbClr val="ffffff"/>
                </a:solidFill>
                <a:latin typeface="Century Gothic"/>
              </a:rPr>
              <a:t> 'Boiken', 'Grochówka', 'Kalwila Biała Zimowa', 'Kuzynek', 'Ontario', 'Pepina Londyńska', 'Piękna z Rept', 'Reneta Baumana', 'Sztetyna Zielona', 'Zorza', 'Żeleźniak'.</a:t>
            </a:r>
            <a:endParaRPr b="0" lang="en-US" sz="19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0:24:05Z</dcterms:created>
  <dc:creator>Misio</dc:creator>
  <dc:description/>
  <dc:language>en-US</dc:language>
  <cp:lastModifiedBy>Piotr Ponichtera</cp:lastModifiedBy>
  <dcterms:modified xsi:type="dcterms:W3CDTF">2025-07-04T08:37:07Z</dcterms:modified>
  <cp:revision>45</cp:revision>
  <dc:subject/>
  <dc:title>Główne zagrożenia wartości przyrodniczych i kulturowych wsi polskiej</dc:title>
</cp:coreProperties>
</file>