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6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D25-62E9-41BC-A4F0-85B828B3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558-7D00-4576-B9D1-9E46497B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37B70-ACCB-4BD5-BC5F-76622173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1FF88-6F61-4F2D-8D2A-2C4E4A44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75E8A-5DF3-4933-81E9-AA6F6DB7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AB7A7-2BA7-4CC8-9AD3-BDCBAD4B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66FDF-F1F1-4151-887F-286E566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FBF62-F147-4BFD-94D0-D762E701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73A38-E208-4597-AEBF-CFE39F45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CB7DF-8C08-413B-91D3-E5269B2A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AD8D8-B0B0-424D-8BFB-50B69AA3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08881-964F-4D97-96C2-44539E72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01A-3A04-4E04-BF83-4A72277F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75910-BD75-4BB1-B847-4513BA02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6CE7F-C682-4E90-BA79-1BC5A102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97BAC-EC8D-42B6-A2F0-384A7B48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81D37-3FD6-428C-BE19-4F627A5B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7D451-33A6-48DF-AE6F-BF8500B3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72FEB-5C00-4E22-B7BF-1AE98436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9E383-0529-4AE0-8467-40619931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ACA75-D160-41A5-914E-6EFB4865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A2F01-2F52-4F21-9E6A-BCDAD746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4A21B-B357-4851-8F4B-D5BBB1F7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430-B733-4190-9190-6FB7185D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7744E-E6CA-4A47-B406-F4BA9E8C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F4AFC-0AC7-4C30-AC75-D60E99AF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8ECDF-1401-46F3-8630-9950270B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D5E4D-AD42-4821-801F-974CF168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41161-3E2F-43C9-95A9-6C97A18B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603CB-F177-4EE1-880F-66135E41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610D4-BDD9-4D4F-8AC6-8376AEF8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9DD59-26AA-423F-8572-DB45474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F58E2-6418-47B4-B34A-905623DF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5B77F-7363-4C42-A38E-66BEE6B1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80DF-4355-4BC7-94FA-6779DD13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774DB-3734-4D0B-8164-A06C4332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52A3B-73DE-4F16-9081-AD90FEE2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8CB80-932D-4CBE-9433-69433F58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52E48-EDFF-4107-A091-380EEE20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5F9B6-6640-4B31-A349-37472AA2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020D3-869D-439E-B5E7-D8269C90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2997F-24CD-4B43-BD43-77823E03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6F5F4-A674-46D9-8141-72F31068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B7572-D499-4271-9829-3C1C8085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88B75-E675-4FBA-981F-F605D4B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6407-8775-4A59-B294-3ECFDA91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CF4BC-2112-45FE-94C8-BE1A505A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75F79-B94D-412E-AB9B-F35C816B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F001F-23D6-4F25-99B2-D5A98E32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D1F15-B85F-4F65-A2DE-58C08160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6892E-7463-4676-BB61-2014BC68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677AC-E774-412A-9C7F-80277D88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78E5D-04BA-4247-8CA2-EE2FDEF7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166D4-B9BD-44F8-BC06-1E859A95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1A7FC-2A80-438E-8408-3EF80526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80071-2BD6-4682-8E86-14B43663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81C2-814D-4B78-BEA3-179B8A9C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A18A3-DBA9-464E-A691-16032576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9CDD1-A2DF-4CBD-B808-CA729053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598F9-A643-4AF4-BA5B-BCAEC1C3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84DB7-C402-4572-9DFC-6E8C1ADB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52FB2-88FB-48BA-ADC3-C646EEE4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2C5E1-DDFD-481F-A4F4-A719E39A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44054-FAF4-4D58-B6B7-5203AEEF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09E8-CE58-43D3-8BF5-DC91D2CC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36D0-0784-4C30-8AF3-EE3522A6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C2B3-CB9B-4C6D-A2B4-5F2539DC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3DD7-7AAA-4ED1-8C0F-AD2457BE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7CC-5843-4392-AA22-2360904A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C786-E3FD-4858-9926-609C0CD4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2A72-1918-4A63-A657-849EEBC6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3EA8-3840-4837-B092-BBF045A7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3120-15A3-4FF3-A314-97C84EE4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53D0-01DF-49D3-A943-77CE0D6A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D41F-0348-42EC-9DEC-1505C19A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43DB-6F6E-4143-A61D-A0A5BE94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F390-81CA-40D9-A58D-CC332142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4317-5E12-4B7A-8C17-96F864C0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FE397-F669-425D-9A46-41185390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352-FE76-42D5-BCDB-9CC2A857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0531-BE38-4EEF-937B-B8776A29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317A-AE5C-4CF0-8819-CCFD399B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DF24-C146-46BE-A086-FA70B035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07E0B-0C59-44C1-BD28-906CF698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AECD-BEDA-4B7F-8219-D7D65964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84287-B760-44E2-8950-0DFD6E13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E7D3E-E544-451D-B15E-CF610E84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850C4-2228-4B23-9252-D9059269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B2EE1-DD05-448E-B9DC-34A1732F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82F5-DD40-4906-892E-4EC08936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CD1-3144-455C-B910-884109A3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6D577-346C-4994-B844-3AC98C08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DFBA5-7192-4136-8D0B-CE63A813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6DCB-6645-4683-87B4-B3546902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8D0BF-40FC-49BE-974A-E66DF927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BFB6-5234-4FFA-A892-F4A6074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1A73-AA61-4AA2-9741-3C226783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CD91-F100-4A0A-9310-2E259589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00EE5-C33E-44BD-B52D-A705B7B2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ED25-33E8-47CA-B935-4FC04D6C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7B4D-15ED-4F5A-A9D7-E8B50213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304-CC92-4178-8179-700F9D2F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A23EB-6734-491C-9AA2-AD3E0F32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0E03E-89D0-495D-8131-94D09722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0B3B2-9B07-4E7A-98D0-9781F147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ECEE6-A16A-41FA-9A9F-391E7DB3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68938-B9A8-4C70-BDA2-DE5EF930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95340-F659-43F0-9A70-66B37B8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212FE-55E6-416F-BB2A-3FD1C3D6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82DFB-F9B4-4BE8-ABEF-012D889B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9BF9C-0A29-4350-9A20-56FCCD76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7CC5F-80C6-4EF7-8D8A-C0133C91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5DB-71CF-4AE6-8613-A6662105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3B4AF-DC5B-41C3-A2BC-73A16C4D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2CC24-D348-4A13-90CE-498DF41B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9D454-C7E7-48F5-B5C9-4F0CB624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DEEED-7EBA-4CA7-A024-902C43FA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C17C9-E0AE-494B-925F-DBE75DFB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D158C-F3F8-47D3-8DB0-2CF74073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676A-958B-4B86-8C0C-5C0A8293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3F70D-BD0B-4B70-9DC7-63EB3FF6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A19F0-13FD-4B33-8FB2-0D6AC655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5DAF9-96B8-4F17-8553-E79B6312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2F8-5765-4F84-9A6F-64B115F2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06704-91B7-46C2-82AD-B4D6415A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B4BBE-C6C9-4E86-AF2B-26FCB173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6E756-77A2-4CFA-9030-C2EC8F52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E23F0-7858-42CE-9018-2F265137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AFFDE-D421-42C7-A465-3813BE9D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2F6D5-689F-42BA-B21C-8A81776A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9EC59-12BE-463E-BF4F-A33C97BE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E8894-6F64-4653-93C9-5BB9C4DD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8242C-C039-421E-B892-7B2B5A47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CE929-8FE1-4184-97FD-068FB4B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863-176F-489D-86D4-8E7DF2AA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11F94-0DEC-4E72-9681-FFA561B9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7A6FF-9175-4CBE-9343-C1325C90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D8918-1057-444B-8AEF-F1B92C7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9E2D5-42F5-4E18-985C-D744350C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6BDC5-8EE3-48C9-A368-85CEB779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9FD50-DEFA-44A0-9BD8-C9F388EA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ECD2E-BE4F-4344-AE31-15B143A4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5626D-4715-4147-BA72-EE82F5F9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7AA62-E708-4059-A0DA-84A723DD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8E656-CE2B-4E40-A0B2-49E8CC12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9FF-0426-44E1-80F8-B813E0F0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33A21-F176-42C1-82D2-9C563CC6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7A09A-0E46-40AB-90DB-12599149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3A847-0F3D-4278-9600-A57D8F01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1C4E2-FEA1-41A7-858A-992073BF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684CB-C43B-48AC-ABE5-AB7F0D82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F1F2C-220F-4ECE-AD00-90695563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3D101-7349-4B66-9F9D-740C5392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5E923-BE13-4EFC-9E47-57BBF25F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B3159-F9C0-4875-B4C6-9CC5920C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75556-707C-439A-A627-B731B9AC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DF28-D44A-45A2-8069-2B376C6C7666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480960" y="1335240"/>
            <a:ext cx="4761000" cy="3249360"/>
            <a:chOff x="480960" y="1335240"/>
            <a:chExt cx="4761000" cy="324936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480960" y="1335240"/>
              <a:ext cx="4761000" cy="32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85640" y="1338120"/>
              <a:ext cx="474840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FD4C-97BF-4C6B-AA79-038079CFAFEE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847800" y="2279520"/>
            <a:ext cx="3687840" cy="2517840"/>
            <a:chOff x="847800" y="2279520"/>
            <a:chExt cx="3687840" cy="251784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847800" y="2279520"/>
              <a:ext cx="368784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55720" y="2286000"/>
              <a:ext cx="36720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1AD8-AA76-4D65-9AF2-6C15D806EBF8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663F-7D8A-4DAE-80BC-62916AF9AA23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5748480" y="438120"/>
            <a:ext cx="3402000" cy="5426280"/>
            <a:chOff x="5748480" y="438120"/>
            <a:chExt cx="3402000" cy="54262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5748480" y="438120"/>
              <a:ext cx="3402000" cy="54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5751360" y="446040"/>
              <a:ext cx="3392640" cy="54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AutoShape 4"/>
          <p:cNvSpPr/>
          <p:nvPr/>
        </p:nvSpPr>
        <p:spPr>
          <a:xfrm>
            <a:off x="5234040" y="0"/>
            <a:ext cx="39099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7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8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9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4004-881C-480F-9D4A-CF7E6E25E971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6480" y="-12600"/>
            <a:ext cx="9156960" cy="5217840"/>
            <a:chOff x="-6480" y="-12600"/>
            <a:chExt cx="9156960" cy="521784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12600"/>
              <a:ext cx="9156960" cy="52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9144000" cy="52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2EF9-9B5B-40C1-8859-49A2AF3D103E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4B58-896A-4ABF-8A31-388A55A1382E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6480" y="-6480"/>
            <a:ext cx="9156960" cy="5218200"/>
            <a:chOff x="-6480" y="-6480"/>
            <a:chExt cx="9156960" cy="521820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52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9144000" cy="52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B8E4-E2CD-4EFB-8239-F044A899EBB5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FC13-561E-4C5D-BEFB-8041FFC33CFB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7C41-6B1A-4830-9B96-2D1A2CCF2787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4FE8-8BEC-4296-BDC1-BDFC0A1DE7C3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798480" y="438120"/>
            <a:ext cx="2670120" cy="1828800"/>
            <a:chOff x="798480" y="438120"/>
            <a:chExt cx="2670120" cy="182880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798480" y="438120"/>
              <a:ext cx="26701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04960" y="446040"/>
              <a:ext cx="2660400" cy="18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45AF-8D19-4500-83DA-67CFA43A2E39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2914200" y="6041520"/>
            <a:ext cx="731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442800" y="6041520"/>
            <a:ext cx="247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364644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720C-1E33-44D6-9F19-4840F18B81B3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9494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4648320" y="-12600"/>
            <a:ext cx="4495680" cy="29620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0" y="3795840"/>
            <a:ext cx="4876920" cy="3062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8" descr=""/>
          <p:cNvPicPr/>
          <p:nvPr/>
        </p:nvPicPr>
        <p:blipFill>
          <a:blip r:embed="rId4"/>
          <a:stretch/>
        </p:blipFill>
        <p:spPr>
          <a:xfrm>
            <a:off x="4648320" y="3795840"/>
            <a:ext cx="4495680" cy="3062160"/>
          </a:xfrm>
          <a:prstGeom prst="rect">
            <a:avLst/>
          </a:prstGeom>
          <a:ln w="0">
            <a:noFill/>
          </a:ln>
        </p:spPr>
      </p:pic>
      <p:pic>
        <p:nvPicPr>
          <p:cNvPr id="571" name="Obraz 1" descr=""/>
          <p:cNvPicPr/>
          <p:nvPr/>
        </p:nvPicPr>
        <p:blipFill>
          <a:blip r:embed="rId5"/>
          <a:stretch/>
        </p:blipFill>
        <p:spPr>
          <a:xfrm>
            <a:off x="706320" y="2797200"/>
            <a:ext cx="8035920" cy="1249200"/>
          </a:xfrm>
          <a:prstGeom prst="rect">
            <a:avLst/>
          </a:prstGeom>
          <a:ln w="9360">
            <a:solidFill>
              <a:srgbClr val="00c6bb"/>
            </a:solidFill>
            <a:miter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68360" y="4003200"/>
            <a:ext cx="414036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entury Gothic"/>
              </a:rPr>
              <a:t>Dr inż. Piotr Ponichtera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Century Gothic"/>
              </a:rPr>
              <a:t>Wyższa Szkoła Agrobiznesu w Łomży</a:t>
            </a:r>
            <a:endParaRPr b="1" lang="en-US" sz="18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73" name="Obraz 7" descr=""/>
          <p:cNvPicPr/>
          <p:nvPr/>
        </p:nvPicPr>
        <p:blipFill>
          <a:blip r:embed="rId6"/>
          <a:stretch/>
        </p:blipFill>
        <p:spPr>
          <a:xfrm>
            <a:off x="1547640" y="6081840"/>
            <a:ext cx="5749920" cy="793800"/>
          </a:xfrm>
          <a:prstGeom prst="rect">
            <a:avLst/>
          </a:prstGeom>
          <a:ln w="0">
            <a:noFill/>
          </a:ln>
        </p:spPr>
      </p:pic>
      <p:sp>
        <p:nvSpPr>
          <p:cNvPr id="574" name="Prostokąt 8"/>
          <p:cNvSpPr/>
          <p:nvPr/>
        </p:nvSpPr>
        <p:spPr>
          <a:xfrm>
            <a:off x="306360" y="115920"/>
            <a:ext cx="853128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9413a"/>
                </a:solidFill>
                <a:latin typeface="BundesSerif Regular"/>
                <a:ea typeface="Times New Roman"/>
              </a:rPr>
              <a:t>„</a:t>
            </a:r>
            <a:r>
              <a:rPr b="0" lang="de-DE" sz="1600" spc="-1" strike="noStrike">
                <a:solidFill>
                  <a:srgbClr val="39413a"/>
                </a:solidFill>
                <a:latin typeface="BundesSerif Regular"/>
                <a:ea typeface="Times New Roman"/>
              </a:rPr>
              <a:t>UPSKILLING - wsparcie studentów i pracowników prowadzących kształcenie na wybranych kierunkach studiów w Międzynarodowej Akademii Nauk Stosowanych w Łomży”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9413a"/>
                </a:solidFill>
                <a:latin typeface="BundesSerif Regular"/>
                <a:ea typeface="Times New Roman"/>
              </a:rPr>
              <a:t>Nr.  FERS.01.05-IP.08-0278/23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Bioróżnorodność roślin i zwierząt udomowionych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Różnorodność miejscowych form roślin uprawnych: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około 900 odmia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Różnorodność miejscowych ras zwierząt gospodarskich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215 ras rodzimy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Bioróżnorodność gatunków dzikich</a:t>
            </a:r>
            <a:r>
              <a:rPr b="1" lang="pl-PL" sz="4000" spc="-1" strike="noStrike">
                <a:solidFill>
                  <a:srgbClr val="fefefe"/>
                </a:solidFill>
                <a:latin typeface="Century Gothic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ochrona ptaków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ochrona roślin nazywanych chwastam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ochrona krajobrazu terenów rolniczy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44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Bioróżnorodność gatunków dzikich</a:t>
            </a:r>
            <a:r>
              <a:rPr b="1" lang="pl-PL" sz="4000" spc="-1" strike="noStrike">
                <a:solidFill>
                  <a:srgbClr val="fefefe"/>
                </a:solidFill>
                <a:latin typeface="Century Gothic"/>
              </a:rPr>
              <a:t> </a:t>
            </a:r>
            <a:br>
              <a:rPr sz="4000"/>
            </a:br>
            <a:r>
              <a:rPr b="1" lang="pl-PL" sz="2400" spc="-1" strike="noStrike">
                <a:solidFill>
                  <a:srgbClr val="fefefe"/>
                </a:solidFill>
                <a:latin typeface="Century Gothic"/>
              </a:rPr>
              <a:t>Ptaki krajobrazu rolniczego</a:t>
            </a:r>
            <a:endParaRPr b="1" lang="en-US" sz="24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97" name="Picture 1029" descr=""/>
          <p:cNvPicPr/>
          <p:nvPr/>
        </p:nvPicPr>
        <p:blipFill>
          <a:blip r:embed="rId1"/>
          <a:stretch/>
        </p:blipFill>
        <p:spPr>
          <a:xfrm>
            <a:off x="2095560" y="1989000"/>
            <a:ext cx="480060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8" name="Text Box 1028"/>
          <p:cNvSpPr/>
          <p:nvPr/>
        </p:nvSpPr>
        <p:spPr>
          <a:xfrm>
            <a:off x="1040040" y="6102360"/>
            <a:ext cx="65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rop -  Otis tarda - wyginął w Polsce około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198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Ochrona ptaków  obszarów  rolniczych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809640" y="2222640"/>
            <a:ext cx="7524720" cy="3636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zachowanie otwartych przestrzen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zachowanie jak najbardziej urozmaiconych siedlisk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zachowanie zbiorników wodnych wśród pó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Ochrona ptaków jest korzystna dla ludzi!!1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Przyczyny ginięcia chwastów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400" y="2133720"/>
            <a:ext cx="9144000" cy="453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INTENSYFIKACJA ROLNICTWA</a:t>
            </a:r>
            <a:r>
              <a:rPr b="1" lang="pl-PL" sz="18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zmniejszenie powierzchni marginesów ekologicznych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 (siedlisk marginalnych). Były nimi miedze i skrawki gruntów wyłączonych bezpośrednio z użytkowania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chemizacji upraw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 (głównie stosowania herbicydów), działających wybiórczo na określone grupy rośli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zaniechanie prawidłowego zmianowania upraw i nawożenia organicznego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 - na korzyść monokultur i stosowania nawozów mineralnych oraz intensywne nawożenie mineralne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staranne </a:t>
            </a:r>
            <a:r>
              <a:rPr b="1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sortowanie materiału siewneg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wprowadzanie nowych upraw, </a:t>
            </a:r>
            <a:r>
              <a:rPr b="1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zaniechanie upraw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 </a:t>
            </a:r>
            <a:r>
              <a:rPr b="1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“tradycyjnych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”, np. lnu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mechanizacja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200" spc="-1" strike="noStrike">
                <a:solidFill>
                  <a:srgbClr val="fefefe"/>
                </a:solidFill>
                <a:latin typeface="Century Gothic"/>
              </a:rPr>
              <a:t>Ochrona chwastów</a:t>
            </a:r>
            <a:endParaRPr b="1" lang="en-US" sz="3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250920" y="1844280"/>
            <a:ext cx="8610480" cy="4724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zachowanie uprawy roślin tradycyjny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ograniczanie stosowania herbicydów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pozostawianie pasa pola o szer. 1-3 m bez intensywnych zabiegów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celowe dosiewanie ( np. w ogródkach wiejskich, przy skansenach, muzeach, element zieleni urządzonej, itp.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tworzenie „agrorezerwatów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Ochrona zbiorowisk półnaturalnych - łąki i murawy 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Zasady ochrony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Łąki wilgotne – nie osuszać, użytkowanie 1-2 kośne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Łąki świeże – zachować dotychczasowe użytkowanie (na ogół – 3 kośne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Murawy piaskow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szczotlichowe (oligotroficzne)– nie wydeptywać, zakaz wypalani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mezotroficzne – umiarkowany wyp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Ochrona zbiorowisk półnaturalnych - murawy i zarośla kserotermiczne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Roślinność kserotermiczna (ciepłolubna) murawy ciepłolubne (stepowe), murawy napiaskowe, ciepłolubne zbiorowiska zaroślow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Zasady ochrony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Nie zacieniać, nie wydeptywać nadmiernie, nie wypalać, umiarkowanie wypasać, chronić przed erozją, stosować ochronę częściową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Zadrzewienia - wg kształtu i rozmiaru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08000" y="1412640"/>
            <a:ext cx="868680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lvl="2" marL="1143000" indent="-228600" algn="just"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just"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pojedyncze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</a:rPr>
              <a:t> - drzewa i krzewy sadzone luźno i niezależnie od siebie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just"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grupowe 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</a:rPr>
              <a:t>- drzewa i krzewy występują w kępach do kilkudziesięciu sztuk a ich powierzchnia nie przekracza 10 arów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just"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rzędowe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</a:rPr>
              <a:t> - drzewa i krzewy występują w jednym rzędzie o dowolnej długości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just"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pasowe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</a:rPr>
              <a:t> - drzewa i krzewy występują w dwóch i więcej równoległych rzędach o szerokości do 10 m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just"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powierzchniowe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</a:rPr>
              <a:t> - zajmują obszar powyżej 10 arów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Zadrzewienia - wg miejsca występowania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360" y="227628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adrzewienia 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śródpolne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tworzące kępy lub pasy wśród pól, wzdłuż brzegów pól i użytków zielonych,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adrzewienia 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wokół zabudowań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- przy budynkach mieszkalnych i gospodarczych,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adrzewienia 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nadwodne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- wzdłuż różnego rodzaju cieków i zbiorników wodnych,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adrzewienia 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parkowe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tworzące parki i cmentarz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Obraz 1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70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Object 0"/>
          <p:cNvGraphicFramePr/>
          <p:nvPr/>
        </p:nvGraphicFramePr>
        <p:xfrm>
          <a:off x="227160" y="304920"/>
          <a:ext cx="8689680" cy="6497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304920"/>
                    <a:ext cx="8689680" cy="6497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0" dir="0" blurRad="0" rotWithShape="0">
                      <a:srgbClr val="000000">
                        <a:alpha val="4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Zasady kształtowania krajobrazów rolniczych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Ochrona i kształtowanie bogatej struktury ekologicznej krajobrazu rolniczego (zadrzewienia, płaty leśne, oczka wodne, miedz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achowanie mozaiki zbiorowisk naturalnych, półnaturalnych i antropogeniczny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Hamowanie komasacji pól – ochrona miedz (i chwastów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Zasady kształtowania krajobrazów rolniczych c.d.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3480" y="162864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Rozwój sieci zadrzewień w obszarach rolniczy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Na terenach chronionych – przywrócenie tradycyjnego krajobrazu rolniczeg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Ochrona wód - ochrona zbiorników śródpolnych, zagospodarowanie strefy brzegowej przez roślinność - najlepiej naturalną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6966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Zasady kształtowania krajobrazów rolniczych c.d.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08000" y="184428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Obudowa roślinnością obiektów  brzydkich czy szkodliwy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Edukacja ekologiczna ludności wiejskiej (ochrona zadrzewień, zakaz wypalania roślinności, zakaz nieuregulowanego wyrzucania śmieci i wylewania ścieków, dbałość o estetykę otoczenia</a:t>
            </a: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21" name="Obraz 3" descr=""/>
          <p:cNvPicPr/>
          <p:nvPr/>
        </p:nvPicPr>
        <p:blipFill>
          <a:blip r:embed="rId1"/>
          <a:stretch/>
        </p:blipFill>
        <p:spPr>
          <a:xfrm>
            <a:off x="1697040" y="6064200"/>
            <a:ext cx="5749920" cy="793800"/>
          </a:xfrm>
          <a:prstGeom prst="rect">
            <a:avLst/>
          </a:prstGeom>
          <a:ln w="0">
            <a:noFill/>
          </a:ln>
        </p:spPr>
      </p:pic>
      <p:sp>
        <p:nvSpPr>
          <p:cNvPr id="622" name="Prostokąt 1"/>
          <p:cNvSpPr/>
          <p:nvPr/>
        </p:nvSpPr>
        <p:spPr>
          <a:xfrm>
            <a:off x="306360" y="115920"/>
            <a:ext cx="853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9413a"/>
                </a:solidFill>
                <a:latin typeface="BundesSerif Regular"/>
                <a:ea typeface="Times New Roman"/>
              </a:rPr>
              <a:t>„</a:t>
            </a:r>
            <a:r>
              <a:rPr b="0" lang="de-DE" sz="1600" spc="-1" strike="noStrike">
                <a:solidFill>
                  <a:srgbClr val="39413a"/>
                </a:solidFill>
                <a:latin typeface="BundesSerif Regular"/>
                <a:ea typeface="Times New Roman"/>
              </a:rPr>
              <a:t>UPSKILLING - wsparcie studentów i pracowników prowadzących kształcenie na wybranych kierunkach studiów w Międzynarodowej Akademii Nauk Stosowanych w Łomży”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9413a"/>
                </a:solidFill>
                <a:latin typeface="BundesSerif Regular"/>
                <a:ea typeface="Times New Roman"/>
              </a:rPr>
              <a:t>Nr.  FERS.01.05-IP.08-0278/23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  <a:ea typeface="Arial Unicode MS"/>
              </a:rPr>
              <a:t>Krajobraz rolniczy - czy warto go chronić?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218088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Krajobraz rolniczy jest krajobrazem ze znacznym udziałem elementów antropogenicznyc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Na pozór jest to krajobraz niesprzyjający dzikiej przyrodzie, w rzeczywistości zamieszkany jest przez bogaty świat roślin i zwierząt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Systematyka zbiorowisk roślinnych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28600" y="1669680"/>
            <a:ext cx="8686800" cy="5791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Zbiorowiska autogeniczne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- stanowią pierwotną kombinacje gatunków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rwot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atural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Zbiorowiska antropogeniczne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powstały pod wpływem czynników zale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ż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ych od człowieka, jako wtórna kombinacja gatunków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c6bb"/>
                </a:solidFill>
                <a:latin typeface="Century Gothic"/>
                <a:ea typeface="Times New Roman"/>
              </a:rPr>
              <a:t>półnaturalne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c6bb"/>
                </a:solidFill>
                <a:latin typeface="Century Gothic"/>
              </a:rPr>
              <a:t>s</a:t>
            </a:r>
            <a:r>
              <a:rPr b="0" lang="pl-PL" sz="3200" spc="-1" strike="noStrike">
                <a:solidFill>
                  <a:srgbClr val="00c6bb"/>
                </a:solidFill>
                <a:latin typeface="Century Gothic"/>
                <a:ea typeface="Times New Roman"/>
              </a:rPr>
              <a:t>ynantropijn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800" spc="-1" strike="noStrike">
                <a:solidFill>
                  <a:srgbClr val="00c6bb"/>
                </a:solidFill>
                <a:latin typeface="Century Gothic"/>
              </a:rPr>
              <a:t>segetal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800" spc="-1" strike="noStrike">
                <a:solidFill>
                  <a:srgbClr val="00c6bb"/>
                </a:solidFill>
                <a:latin typeface="Century Gothic"/>
              </a:rPr>
              <a:t>ruderal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584600" y="5937120"/>
            <a:ext cx="1067040" cy="22860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6b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943600" y="5702400"/>
            <a:ext cx="23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  krajobrazach rolnicz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Różnorodność biologiczna i krajobrazowa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0" y="1535040"/>
            <a:ext cx="9144000" cy="56390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Różnorodność biologiczna i krajobrazowa obszarów wiejskich Polski należy do najbogatszych w Europi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Zachowane dotąd wartości przyrodnicze i krajobrazowe polskich terenów wiejskich, wynikające z tradycyjnych metod rolniczych, są wartością coraz bardziej dostrzeganą w Europie i mogą stać się – obok wysokiej jakości żywności – międzynarodową  wizytówką polskiej wsi</a:t>
            </a: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49356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Główne zagrożenia wartości przyrodniczych i kulturowych wsi polskiej</a:t>
            </a:r>
            <a:br>
              <a:rPr sz="2800"/>
            </a:b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 fontScale="97000"/>
          </a:bodyPr>
          <a:p>
            <a:pPr marL="332640" indent="-33264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entury Gothic"/>
              </a:rPr>
              <a:t>INTENSYFIKACJA ROLNICTWA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Zmiany struktury agrarnej – powiększanie pól połączone z likwidowaniem cennych użytków przyrodniczych, upraszczaniem struktury krajobrazu wiejskiego i z wprowadzaniem monokulturowych upraw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Intensyfikacja gospodarki rolnej prowadząca do nasilenia się erozji gleb, zmian warunków wodnych (melioracje), chemizacji, intensyfikacja zabiegów rolniczych ( orka pożniwna, bronowanie, itp.)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Nadmierna intensyfikacja gospodarki łąkarskiej lub pastwiskowej (wczesne terminy koszenia i  wypasów, zwiększanie obsady zwierząt)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Zanik lokalnych ras zwierząt gospodarskich i lokalnych odmian roślin uprawnych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85392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Główne zagrożenia wartości przyrodniczych i kulturowych wsi polskiej</a:t>
            </a:r>
            <a:br>
              <a:rPr sz="2800"/>
            </a:b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EKSTENSYFIKACJA  ROLNICTW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Zaniedbywanie lub zaniechanie użytkowania łąk i pastwisk, które przekształcają się w tereny zadrzewione</a:t>
            </a:r>
            <a:r>
              <a:rPr b="1" lang="pl-PL" sz="2400" spc="-1" strike="noStrike">
                <a:solidFill>
                  <a:srgbClr val="3b3c3e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Bioróżnorodność terenów rolniczych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09640" y="2222640"/>
            <a:ext cx="7524720" cy="3636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entury Gothic"/>
              </a:rPr>
              <a:t>Z rolniczego punktu widzenia wyróżniamy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Century Gothic"/>
              </a:rPr>
              <a:t>różnorodność biologiczną gatunków, odmian, ras roślin i zwierząt udomowionych, czyli uprawianych i hodowanych przez człowieka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Century Gothic"/>
              </a:rPr>
              <a:t>różnorodność biologiczną dzikich gatunków roślin i zwierząt żyjących na terenach rolniczych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Bioróżnorodność roślin i zwierząt udomowionych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200" spc="-1" strike="noStrike">
                <a:solidFill>
                  <a:srgbClr val="ffffff"/>
                </a:solidFill>
                <a:latin typeface="Century Gothic"/>
              </a:rPr>
              <a:t>Ważniejsze odmiany </a:t>
            </a:r>
            <a:r>
              <a:rPr b="1" lang="pl-PL" sz="2200" spc="-1" strike="noStrike">
                <a:solidFill>
                  <a:srgbClr val="ffffff"/>
                </a:solidFill>
                <a:latin typeface="Century Gothic"/>
              </a:rPr>
              <a:t>jabłoni</a:t>
            </a:r>
            <a:r>
              <a:rPr b="0" lang="pl-PL" sz="2200" spc="-1" strike="noStrike">
                <a:solidFill>
                  <a:srgbClr val="ffffff"/>
                </a:solidFill>
                <a:latin typeface="Century Gothic"/>
              </a:rPr>
              <a:t> w przedwojennej Polsce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Letnie</a:t>
            </a: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: 'Ananas Berżenicki', 'Charłamowskie', 'Grafsztynek Inflancki', 'Kalwila Letnia Fraas'a', 'Oliwka Inflancka', 'Różanka Wirgińska', 'Titówka’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Jesienne</a:t>
            </a: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: 'Aporta', 'Grafsztynek Prawdziwy', 'Antonówka Zwykła', 'Antonówka Półtorafuntowa', 'Glogierówka', 'Kalwila Czerwona Jesienna', 'Kosztela', 'Kronselska', 'Malinowa Oberlandzka', 'Rarytas Śląski'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Wczesnozimowe</a:t>
            </a: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: 'Alant', 'Cesarz Wilhelm', 'Kantówka Gdańska', 'Kardynalskie', 'Koksa Pomarańczowa', 'Królowa Renet', 'Landsberska', 'Mank's Kchenapfel', 'Parmena Szkarłatna Zimowa', 'Pepina Linneusza', 'Pepina Ribstona', 'Piękna z Boskoop', 'Rajewskie', 'Szara Reneta'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Późnozimowe:</a:t>
            </a: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 'Boiken', 'Grochówka', 'Kalwila Biała Zimowa', 'Kuzynek', 'Ontario', 'Pepina Londyńska', 'Piękna z Rept', 'Reneta Baumana', 'Sztetyna Zielona', 'Zorza', 'Żeleźniak'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0:24:05Z</dcterms:created>
  <dc:creator>Misio</dc:creator>
  <dc:description/>
  <dc:language>en-US</dc:language>
  <cp:lastModifiedBy>Piotr Ponichtera</cp:lastModifiedBy>
  <dcterms:modified xsi:type="dcterms:W3CDTF">2025-07-04T08:37:07Z</dcterms:modified>
  <cp:revision>45</cp:revision>
  <dc:subject/>
  <dc:title>Główne zagrożenia wartości przyrodniczych i kulturowych wsi polskiej</dc:title>
</cp:coreProperties>
</file>